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5172-6F19-4D63-9AD6-79EA606C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6AF2-6C12-413C-B4A0-12D3A780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3C72-5BFC-49FE-920F-C29A27C9D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5EB5-782D-425B-8804-2739CBB0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E5EF-B561-44D7-BEA7-CC701FEC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03D8-8030-4631-BCF2-B269C254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CD28-953E-4CD5-82E4-94357165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30BE-2736-45E0-BAE7-C4634CD7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CBD9-060D-41C8-9F10-64D393AE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E2FC-2291-441B-8772-E62F1434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2FEC-6AF7-46A6-B734-FF8804A2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3180-BE70-4A17-ACBF-975EBE6A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E96E-F8FD-4860-94C6-5181437EC402}" type="slidenum">
              <a:rPr b="0" lang="en-P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 11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808992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Rectangle 3" descr=""/>
          <p:cNvPicPr/>
          <p:nvPr/>
        </p:nvPicPr>
        <p:blipFill>
          <a:blip r:embed="rId1"/>
          <a:stretch/>
        </p:blipFill>
        <p:spPr>
          <a:xfrm>
            <a:off x="1712880" y="2779560"/>
            <a:ext cx="520560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3" descr=""/>
          <p:cNvPicPr/>
          <p:nvPr/>
        </p:nvPicPr>
        <p:blipFill>
          <a:blip r:embed="rId2"/>
          <a:stretch/>
        </p:blipFill>
        <p:spPr>
          <a:xfrm>
            <a:off x="66600" y="2249640"/>
            <a:ext cx="8937720" cy="345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tangle 3" descr=""/>
          <p:cNvPicPr/>
          <p:nvPr/>
        </p:nvPicPr>
        <p:blipFill>
          <a:blip r:embed="rId1"/>
          <a:stretch/>
        </p:blipFill>
        <p:spPr>
          <a:xfrm>
            <a:off x="420840" y="1231920"/>
            <a:ext cx="865008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1T05:26:30Z</dcterms:created>
  <dc:creator>ESTER</dc:creator>
  <dc:description/>
  <dc:language>en-US</dc:language>
  <cp:lastModifiedBy>ESTER</cp:lastModifiedBy>
  <dcterms:modified xsi:type="dcterms:W3CDTF">2012-07-12T00:10:37Z</dcterms:modified>
  <cp:revision>7</cp:revision>
  <dc:subject/>
  <dc:title>Slide 1</dc:title>
</cp:coreProperties>
</file>